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071-5BA9-4746-83D0-1294ABCF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C33-07F3-4FD9-A7E7-C45DD6E6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6CA-2FF8-488F-A171-D3AFA9C2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DE0-D5DF-4AFF-924C-3935904A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901-11E3-47A4-854B-A8838B96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D69-AD9B-4937-B9C8-218473C5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347-64A6-444A-B313-0B2843D0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0CA-F93A-456A-97A3-DC8E96E7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D7B-7625-4CF3-B0CC-3AEB90B6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A18-E2C7-48A9-A588-4336C413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326-E7A4-406F-9418-3D584DD4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2D9-B9B5-40F7-B6C0-AD248248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80A9-E0DA-4A54-A0CC-B476B23C4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640" y="-106200"/>
            <a:ext cx="9372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c6600"/>
                </a:solidFill>
                <a:latin typeface="Arial"/>
              </a:rPr>
              <a:t>Me llamo _________ Clase 702</a:t>
            </a:r>
            <a:br>
              <a:rPr sz="3900"/>
            </a:br>
            <a:r>
              <a:rPr b="0" lang="en-US" sz="3900" spc="-1" strike="noStrike">
                <a:solidFill>
                  <a:srgbClr val="cc6600"/>
                </a:solidFill>
                <a:latin typeface="Arial"/>
              </a:rPr>
              <a:t>La fecha es el 10 de noviembre de 2016</a:t>
            </a:r>
            <a:endParaRPr b="0" lang="en-US" sz="39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320" y="1139760"/>
            <a:ext cx="89913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17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L.O.: to finish the review of the house and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ierto o Falso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casa pequeña tiene cuatro cua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apartamento grande tiene ocho cua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dificios son ba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casa privada tiene solo uno o dos pisos y un edificio tiene muchos pi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una casa, la familia usa un ascen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-3808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606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ntos cuartos tiene tu casa o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les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es tu sa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hay en tu dormito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I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el verbo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5181480"/>
          <a:ext cx="8534520" cy="148284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  <a:gridCol w="21337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18720">
                      <a:solidFill>
                        <a:srgbClr val="fea24e"/>
                      </a:solidFill>
                    </a:lnB>
                    <a:solidFill>
                      <a:srgbClr val="ecd044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ER (to ha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18720">
                      <a:solidFill>
                        <a:srgbClr val="fea24e"/>
                      </a:solidFill>
                    </a:lnB>
                    <a:solidFill>
                      <a:srgbClr val="ecd04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1872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1872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1872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1872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bf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bf7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bf7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bf7e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6:23:15Z</dcterms:created>
  <dc:creator>Helen</dc:creator>
  <dc:description/>
  <dc:language>en-US</dc:language>
  <cp:lastModifiedBy>Helen Zumaeta</cp:lastModifiedBy>
  <cp:lastPrinted>2016-11-04T22:17:54Z</cp:lastPrinted>
  <dcterms:modified xsi:type="dcterms:W3CDTF">2016-11-10T21:13:41Z</dcterms:modified>
  <cp:revision>25</cp:revision>
  <dc:subject/>
  <dc:title>Me llamo _________   Clase 10NN La fecha es el 27 de abril del 2009</dc:title>
</cp:coreProperties>
</file>